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E2A-7110-406A-AB21-A3CCDD98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9D6-6A3E-4FA0-8A1D-CD362271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C44-BA1F-4D07-9A1F-6892258F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1F7-0810-4ECA-A6BE-9E0E136F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4FE-165C-4149-8FFB-4E2C6492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0B0-4381-44B6-8F10-48BD270E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ED9-BFB7-4885-936B-DCF8F5AC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A1C-0852-4639-A397-DB6368BC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21A-F97C-48C4-9CEF-60AF18F5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B24-1539-49F2-9EFB-45B6C2DA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991-7769-49D1-A1B8-3F055BDE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F0A-615D-416D-9E70-694840D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C911-A1E9-4BD4-B092-349CC6A3C6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27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66680" y="457200"/>
          <a:ext cx="7848720" cy="3560760"/>
        </p:xfrm>
        <a:graphic>
          <a:graphicData uri="http://schemas.openxmlformats.org/drawingml/2006/table">
            <a:tbl>
              <a:tblPr/>
              <a:tblGrid>
                <a:gridCol w="1981440"/>
                <a:gridCol w="2332080"/>
                <a:gridCol w="3535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住宅的设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何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何功能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门外风向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 txBox="1"/>
          <p:nvPr/>
        </p:nvSpPr>
        <p:spPr>
          <a:xfrm>
            <a:off x="609480" y="304920"/>
            <a:ext cx="266724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小组合作（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523880" y="228600"/>
            <a:ext cx="221004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及时训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5238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以“电脑住宅”导游的身份介绍“电脑住宅”其中一部分。（提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“我是电脑住宅的导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X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现在我带大家去参观电脑住宅的——”开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5720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276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门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276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门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276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客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276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厨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276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卧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浴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29200" y="457200"/>
            <a:ext cx="35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大门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62485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2666880"/>
            <a:ext cx="244944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4800600"/>
            <a:ext cx="8458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感知室外环境，调节室内环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760" y="-12672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风向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637000"/>
            <a:ext cx="125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350532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具有安保功能，防止不明人物进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24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124080" y="5105520"/>
            <a:ext cx="6019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会客室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可自由调运屋内自己所需要的物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5400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16360" y="333360"/>
            <a:ext cx="217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厨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5715000"/>
            <a:ext cx="5333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一套教人做菜的电脑装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卧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智能进入舒适、安全的休息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"/>
              </a:rPr>
              <a:t>浴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可以预约洗澡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3352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住宅里的所有电脑全部设在“暗处”，在室内见不到。它们各有各的职能，分工负责，同时又互相连接，以便对环境作出综合判断，为主人提供舒适的生活条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219320"/>
            <a:ext cx="52578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66"/>
                </a:solidFill>
                <a:latin typeface="Arial"/>
              </a:rPr>
              <a:t>大胆的想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66"/>
                </a:solidFill>
                <a:latin typeface="Arial"/>
              </a:rPr>
              <a:t>掌握丰富的知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66"/>
                </a:solidFill>
                <a:latin typeface="Arial"/>
              </a:rPr>
              <a:t>掌握熟练的技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3429000" y="-304920"/>
            <a:ext cx="13639680" cy="792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993080" cy="5951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56610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水滴”度假胜地，房子下面是水下水族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404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开拓视野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63640" y="5661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日本的“贝壳之屋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172720" cy="6048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32000" y="5661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美国纽约的绿色建筑——银行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练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981000"/>
            <a:ext cx="309564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00980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以“我设计的电脑住宅（教室、商场、学校、医院……）”为题，选择一个地方或设施，把自己的设计写下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522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5400" spc="-1" strike="noStrike" baseline="18000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1" lang="zh-CN" sz="5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脑住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404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于日本东京市中心，建筑面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平方米，内部安装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台电脑，设计师是东京大学教授坂村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867280"/>
            <a:ext cx="472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自主学习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要求：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①请自由朗读课文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②读准字音，遇到生字时，拼读括号里的注音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③把课文读通顺、流利，读不通顺的地方反复多读几遍。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说一说：电脑住宅给你留下了什么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413000"/>
            <a:ext cx="81360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  轻松  悦耳  示范  烹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pēnɡrèn         zōnɡ    p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烹饪  预约  综合  判断  提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cānɡ    ch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仓库  储存   分门别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593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5640" y="765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学习词语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堂作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一锤定音（在正确的读音下面打“√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chāng   cā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库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chǔ   c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存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防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ào   dà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ēng   hē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调            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判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àn   pàn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断         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zōng  zhō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5486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找一找：课文先后介绍了电脑住宅的哪些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251460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380988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525780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25780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 rot="21337800">
            <a:off x="837720" y="23623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门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352680" y="228600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大门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2120" y="342900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会客室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114800" y="350532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厨房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57400" y="5105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卧室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43400" y="51055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浴室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19520" y="152280"/>
            <a:ext cx="34290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合作探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712152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你知道这篇文章按照什么顺序来写的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666880"/>
            <a:ext cx="67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按方位顺序，也叫按空间变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用自己喜欢的方式读课文，用方框划出是哪项设施让你感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神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用波浪线划出让你感受到神奇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为您服务教育网http://www.wsbedu.com</dc:creator>
  <dc:description/>
  <dc:language>en-US</dc:language>
  <cp:lastModifiedBy>微软用户</cp:lastModifiedBy>
  <dcterms:modified xsi:type="dcterms:W3CDTF">2014-12-17T00:34:53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